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9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19.png" ContentType="image/png"/>
  <Override PartName="/ppt/media/image40.wmf" ContentType="image/x-wmf"/>
  <Override PartName="/ppt/media/image6.png" ContentType="image/png"/>
  <Override PartName="/ppt/media/image36.wmf" ContentType="image/x-wmf"/>
  <Override PartName="/ppt/media/image35.wmf" ContentType="image/x-wmf"/>
  <Override PartName="/ppt/media/image34.wmf" ContentType="image/x-wmf"/>
  <Override PartName="/ppt/media/image33.wmf" ContentType="image/x-wmf"/>
  <Override PartName="/ppt/media/image31.wmf" ContentType="image/x-wmf"/>
  <Override PartName="/ppt/media/image30.wmf" ContentType="image/x-wmf"/>
  <Override PartName="/ppt/media/image3.png" ContentType="image/png"/>
  <Override PartName="/ppt/media/image21.wmf" ContentType="image/x-wmf"/>
  <Override PartName="/ppt/media/image58.wmf" ContentType="image/x-wmf"/>
  <Override PartName="/ppt/media/image59.wmf" ContentType="image/x-wmf"/>
  <Override PartName="/ppt/media/image22.wmf" ContentType="image/x-wmf"/>
  <Override PartName="/ppt/media/image65.png" ContentType="image/png"/>
  <Override PartName="/ppt/media/image26.wmf" ContentType="image/x-wmf"/>
  <Override PartName="/ppt/media/image28.wmf" ContentType="image/x-wmf"/>
  <Override PartName="/ppt/media/image70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25.wmf" ContentType="image/x-wmf"/>
  <Override PartName="/ppt/media/image62.wmf" ContentType="image/x-wmf"/>
  <Override PartName="/ppt/media/image63.wmf" ContentType="image/x-wmf"/>
  <Override PartName="/ppt/media/image23.png" ContentType="image/png"/>
  <Override PartName="/ppt/media/image27.wmf" ContentType="image/x-wmf"/>
  <Override PartName="/ppt/media/image64.wmf" ContentType="image/x-wmf"/>
  <Override PartName="/ppt/media/image66.wmf" ContentType="image/x-wmf"/>
  <Override PartName="/ppt/media/image79.wmf" ContentType="image/x-wmf"/>
  <Override PartName="/ppt/media/image67.wmf" ContentType="image/x-wmf"/>
  <Override PartName="/ppt/media/image78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73.wmf" ContentType="image/x-wmf"/>
  <Override PartName="/ppt/media/image72.wmf" ContentType="image/x-wmf"/>
  <Override PartName="/ppt/media/image2.png" ContentType="image/png"/>
  <Override PartName="/ppt/media/image71.wmf" ContentType="image/x-wmf"/>
  <Override PartName="/ppt/media/image69.wmf" ContentType="image/x-wmf"/>
  <Override PartName="/ppt/media/image32.wmf" ContentType="image/x-wmf"/>
  <Override PartName="/ppt/media/image68.wmf" ContentType="image/x-wmf"/>
  <Override PartName="/ppt/media/image17.wmf" ContentType="image/x-wmf"/>
  <Override PartName="/ppt/media/image9.wmf" ContentType="image/x-wmf"/>
  <Override PartName="/ppt/media/image39.wmf" ContentType="image/x-wmf"/>
  <Override PartName="/ppt/media/image81.wmf" ContentType="image/x-wmf"/>
  <Override PartName="/ppt/media/image16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54.png" ContentType="image/png"/>
  <Override PartName="/ppt/media/image11.wmf" ContentType="image/x-wmf"/>
  <Override PartName="/ppt/media/image48.wmf" ContentType="image/x-wmf"/>
  <Override PartName="/ppt/media/image14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13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8D98-4E4F-4B58-8823-50D82A67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8F0-860D-49C0-96D5-9B0A4A377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F36A-CBA6-424A-8C90-8C26B682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E6D-2825-443B-ADF1-AF05A28B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E5FF-38F7-44AE-93D3-FD401ECE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32BB4-22AD-438F-945A-7E2219F3D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43A6B-7F1E-4C78-BA3F-9359DEAE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2D833-EB4F-40EF-98FF-B10A6BCF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F40-645C-41EC-9676-D92DD210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4BFE8-2E5F-4DB7-BB97-BB079F65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E705-D635-4E18-BCDD-8DB4EDE1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C896-02D0-4760-AF7F-7D11DA9BB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3C2C-015D-466D-9F2A-599C31E9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FBC02-6D22-4167-A45F-4AD7E9A1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8055-0B32-43F1-8B79-C55DDD988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B102-328A-4E8F-91AB-A743AB99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0F4-7537-4D71-85EA-082C42AFF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D22E-3A1E-413D-826D-62E5B2E4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BDF8-183C-4C3F-A0A4-6FB448D7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D7FB-9733-42F0-B9ED-8EA6EAFD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0D8D7-2AE7-436F-A99D-B28C641E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6659F-EF4A-4833-B576-921B471F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C81-C0B9-4CEC-B81F-370B9DB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5D80-5453-4F86-B7DE-DF9AB05E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640D0-30AD-459F-B251-C433E854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ADBC-F544-4D72-AA7C-D1BE974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1D69A-CE55-482A-A666-4412C418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04FE0-E1AB-49B0-B999-756703E8B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7486-30B5-44F4-8D4C-4CAB2D1B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01D8C-8281-4D8F-B26F-3479E334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9E2064-33E8-45B2-A7FD-F8A35DBE0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B5F23-F8E9-4C54-A076-5045388DD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29A091-11BA-4784-A88E-39C98E5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5F2-6BC1-459C-9083-0C6C8BA7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1BCB5-E496-49A2-896B-AE257BDE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594A32-96B4-4F2D-9AC2-F4690F36C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8E767-72F1-42FC-9CD1-29607251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3A3AA-9EDB-4404-ADF8-9A26008C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1CE0-FB66-457C-BA52-F189DEF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9475E-7C2D-4161-86A6-D1AF987F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CF306-24A5-4FB5-9E01-535B842A3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64DBF-FF1D-43AA-B79A-1653A825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D1089-EF70-4F42-8D6C-FFB206686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35E-3E2F-43CF-ADFE-0C728484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2D7-D21F-46A0-BC99-CF65E023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3426-1A9A-4E91-A628-9269D95C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8A04-1A63-4FB1-BC30-EB4E6D59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B940-3D24-4051-AE3E-D98D4795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5731-971D-4ED2-9847-ED3D9E86A8F6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A93-FA8B-42A8-ADF3-6E478E5C213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807D-90C1-404B-B396-0A088E727471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29D6-AB85-48A4-88AC-38ECC78902BC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5.wmf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2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3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3.wmf"/><Relationship Id="rId2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7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5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59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0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61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62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63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64.wmf"/><Relationship Id="rId2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9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70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71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72.wmf"/><Relationship Id="rId1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7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1.wmf"/><Relationship Id="rId19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df.kg.ac.rs/" TargetMode="External"/><Relationship Id="rId2" Type="http://schemas.openxmlformats.org/officeDocument/2006/relationships/hyperlink" Target="http://www.medf.kg.ac.rs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876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хемија 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авеза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година студ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ски (први) семеста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0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годин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4200" y="1356840"/>
            <a:ext cx="86868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kule-ова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тео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а, стереоизомерија и конформација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е групе и угљоводоничне групе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е реакције.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Молекулске структуре органских молекул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 састава и промена органских супстанц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ца елемента Х у једињењу ХmYn =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n · (валенциони број за Y) / m → (код неорганских једињења нпр. HF, C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O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→ угљеник има неограничен број вредности за валенцу??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68360" y="1700280"/>
          <a:ext cx="8229600" cy="5029200"/>
        </p:xfrm>
        <a:graphic>
          <a:graphicData uri="http://schemas.openxmlformats.org/drawingml/2006/table">
            <a:tbl>
              <a:tblPr/>
              <a:tblGrid>
                <a:gridCol w="1522440"/>
                <a:gridCol w="2592360"/>
                <a:gridCol w="2057400"/>
                <a:gridCol w="20574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екулск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пу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на структурна форм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ула веза-црт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1224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1224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sr-Latn-R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f6fc6"/>
                      </a:solidFill>
                    </a:lnL>
                    <a:lnR w="5760">
                      <a:solidFill>
                        <a:srgbClr val="0f6fc6"/>
                      </a:solidFill>
                    </a:lnR>
                    <a:lnT w="5760">
                      <a:solidFill>
                        <a:srgbClr val="0f6fc6"/>
                      </a:solidFill>
                    </a:lnT>
                    <a:lnB w="5760">
                      <a:solidFill>
                        <a:srgbClr val="0f6fc6"/>
                      </a:solidFill>
                    </a:lnB>
                    <a:solidFill>
                      <a:srgbClr val="0f6f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Object 2"/>
          <p:cNvGraphicFramePr/>
          <p:nvPr/>
        </p:nvGraphicFramePr>
        <p:xfrm>
          <a:off x="2411280" y="2781360"/>
          <a:ext cx="1641600" cy="154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2781360"/>
                    <a:ext cx="1641600" cy="15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3"/>
          <p:cNvGraphicFramePr/>
          <p:nvPr/>
        </p:nvGraphicFramePr>
        <p:xfrm>
          <a:off x="2484360" y="4508640"/>
          <a:ext cx="1639800" cy="90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450864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Object 4"/>
          <p:cNvGraphicFramePr/>
          <p:nvPr/>
        </p:nvGraphicFramePr>
        <p:xfrm>
          <a:off x="2484360" y="5661000"/>
          <a:ext cx="1639800" cy="90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84360" y="5661000"/>
                    <a:ext cx="16398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5"/>
          <p:cNvGraphicFramePr/>
          <p:nvPr/>
        </p:nvGraphicFramePr>
        <p:xfrm>
          <a:off x="5003640" y="3284640"/>
          <a:ext cx="1287720" cy="56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3640" y="3284640"/>
                    <a:ext cx="128772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6"/>
          <p:cNvGraphicFramePr/>
          <p:nvPr/>
        </p:nvGraphicFramePr>
        <p:xfrm>
          <a:off x="5003640" y="4869000"/>
          <a:ext cx="1231920" cy="18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9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03640" y="4869000"/>
                    <a:ext cx="123192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5003640" y="5805360"/>
          <a:ext cx="1125720" cy="563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03640" y="5805360"/>
                    <a:ext cx="112572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7308720" y="3141720"/>
          <a:ext cx="708120" cy="6192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141720"/>
                    <a:ext cx="70812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9"/>
          <p:cNvGraphicFramePr/>
          <p:nvPr/>
        </p:nvGraphicFramePr>
        <p:xfrm>
          <a:off x="7236000" y="4797360"/>
          <a:ext cx="871200" cy="293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5" name="Object 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236000" y="4797360"/>
                    <a:ext cx="871200" cy="2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Object 10"/>
          <p:cNvGraphicFramePr/>
          <p:nvPr/>
        </p:nvGraphicFramePr>
        <p:xfrm>
          <a:off x="7236000" y="5805360"/>
          <a:ext cx="871200" cy="719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37" name="Object 1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236000" y="5805360"/>
                    <a:ext cx="8712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39" name="Object 2"/>
          <p:cNvGraphicFramePr/>
          <p:nvPr/>
        </p:nvGraphicFramePr>
        <p:xfrm>
          <a:off x="2340000" y="1916280"/>
          <a:ext cx="4680000" cy="45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916280"/>
                    <a:ext cx="4680000" cy="45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Box 4"/>
          <p:cNvSpPr/>
          <p:nvPr/>
        </p:nvSpPr>
        <p:spPr>
          <a:xfrm>
            <a:off x="2708280" y="1628640"/>
            <a:ext cx="372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5"/>
          <p:cNvSpPr/>
          <p:nvPr/>
        </p:nvSpPr>
        <p:spPr>
          <a:xfrm>
            <a:off x="4075560" y="422100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6"/>
          <p:cNvSpPr/>
          <p:nvPr/>
        </p:nvSpPr>
        <p:spPr>
          <a:xfrm>
            <a:off x="4068720" y="6165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а се подсетимо..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1781640" y="141300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man-ове пројекционе форму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171920" y="299736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6"/>
          <p:cNvSpPr/>
          <p:nvPr/>
        </p:nvSpPr>
        <p:spPr>
          <a:xfrm>
            <a:off x="7165800" y="5373720"/>
            <a:ext cx="10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т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3"/>
          <p:cNvGraphicFramePr/>
          <p:nvPr/>
        </p:nvGraphicFramePr>
        <p:xfrm>
          <a:off x="2268360" y="1916280"/>
          <a:ext cx="4319640" cy="475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916280"/>
                    <a:ext cx="4319640" cy="47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 има обично у својим једињењима потпуно одређену и сталну валенциону вредност (4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 атоми се могу на различите начине везивати међу собо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52" name="Object 2"/>
          <p:cNvGraphicFramePr/>
          <p:nvPr/>
        </p:nvGraphicFramePr>
        <p:xfrm>
          <a:off x="1619280" y="4221000"/>
          <a:ext cx="5792760" cy="234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4221000"/>
                    <a:ext cx="579276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Kekulé-oва структурна тео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е у органском једињењу двогуба или трогуба веза налазе између два суседна атома угљеника → НЕ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су у органском једињењу атоми угљеника повезани простим везама, а вишегубе везе постоје између угљеника и хетероатома→ ЗАСИЋЕНО ЈЕДИЊЕЊЕ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!! С друге стране, сматра се да је засићен угљеников атом само онај који има само просте везе, а незасићен угљеник мора садржати вишегубу везу (без обзира да ли је формира са другим угљеником или хетероатомом). 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пр. тако је пропилен незасићено једињење са једним засићеним и два незасићена угљеникова атом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Content Placeholder 4" descr=""/>
          <p:cNvPicPr/>
          <p:nvPr/>
        </p:nvPicPr>
        <p:blipFill>
          <a:blip r:embed="rId1"/>
          <a:stretch/>
        </p:blipFill>
        <p:spPr>
          <a:xfrm>
            <a:off x="231840" y="1158840"/>
            <a:ext cx="8540640" cy="547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7" name="Object 3"/>
          <p:cNvGraphicFramePr/>
          <p:nvPr/>
        </p:nvGraphicFramePr>
        <p:xfrm>
          <a:off x="4356000" y="4365720"/>
          <a:ext cx="2376720" cy="185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356000" y="4365720"/>
                    <a:ext cx="2376720" cy="18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4"/>
          <p:cNvGraphicFramePr/>
          <p:nvPr/>
        </p:nvGraphicFramePr>
        <p:xfrm>
          <a:off x="4211640" y="1484280"/>
          <a:ext cx="2808360" cy="1965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0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11640" y="1484280"/>
                    <a:ext cx="280836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зомери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 су једињења истог елементалног састава (исте молекулске формуле), а различитих особин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чк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једнак, ист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o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Object 2"/>
          <p:cNvGraphicFramePr/>
          <p:nvPr/>
        </p:nvGraphicFramePr>
        <p:xfrm>
          <a:off x="1979640" y="1773360"/>
          <a:ext cx="5335560" cy="24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5335560" cy="24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Rounded Rectangle 4"/>
          <p:cNvSpPr/>
          <p:nvPr/>
        </p:nvSpPr>
        <p:spPr>
          <a:xfrm>
            <a:off x="2700360" y="1125360"/>
            <a:ext cx="3959280" cy="5749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ounded Rectangle 5"/>
          <p:cNvSpPr/>
          <p:nvPr/>
        </p:nvSpPr>
        <p:spPr>
          <a:xfrm>
            <a:off x="179280" y="2852640"/>
            <a:ext cx="39610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6"/>
          <p:cNvSpPr/>
          <p:nvPr/>
        </p:nvSpPr>
        <p:spPr>
          <a:xfrm>
            <a:off x="5076720" y="2852640"/>
            <a:ext cx="3959280" cy="576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а изомер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108000" y="4221000"/>
            <a:ext cx="460836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н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ја положа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оналн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утомериј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8"/>
          <p:cNvSpPr/>
          <p:nvPr/>
        </p:nvSpPr>
        <p:spPr>
          <a:xfrm>
            <a:off x="5148360" y="4221000"/>
            <a:ext cx="3887640" cy="24987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стерео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ка изомер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се вреднује са 6 ЕСПБ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ељно им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ва активне наставе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ас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авања и 2 часа вежби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на изомериј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 (конституционе) формуле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ују и број атома у молекулу и начин на који су атоми међу собом везан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 која имају исту молекулску формулу али различите структуре или конституције називају с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и (конституциони) изом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ама појав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а (конституциона) изомер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Content Placeholder 3" descr=""/>
          <p:cNvPicPr/>
          <p:nvPr/>
        </p:nvPicPr>
        <p:blipFill>
          <a:blip r:embed="rId1"/>
          <a:stretch/>
        </p:blipFill>
        <p:spPr>
          <a:xfrm>
            <a:off x="712800" y="1090440"/>
            <a:ext cx="7547040" cy="5243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Object 3"/>
          <p:cNvGraphicFramePr/>
          <p:nvPr/>
        </p:nvGraphicFramePr>
        <p:xfrm>
          <a:off x="2268360" y="1197000"/>
          <a:ext cx="2444760" cy="5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197000"/>
                    <a:ext cx="244476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5" name="Object 4"/>
          <p:cNvGraphicFramePr/>
          <p:nvPr/>
        </p:nvGraphicFramePr>
        <p:xfrm>
          <a:off x="2268360" y="2205000"/>
          <a:ext cx="2527560" cy="596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68360" y="2205000"/>
                    <a:ext cx="252756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7" name="Object 5"/>
          <p:cNvGraphicFramePr/>
          <p:nvPr/>
        </p:nvGraphicFramePr>
        <p:xfrm>
          <a:off x="2268360" y="3357720"/>
          <a:ext cx="2508480" cy="317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8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68360" y="3357720"/>
                    <a:ext cx="250848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6"/>
          <p:cNvGraphicFramePr/>
          <p:nvPr/>
        </p:nvGraphicFramePr>
        <p:xfrm>
          <a:off x="2268360" y="4292640"/>
          <a:ext cx="3743640" cy="53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0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268360" y="4292640"/>
                    <a:ext cx="3743640" cy="5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7"/>
          <p:cNvGraphicFramePr/>
          <p:nvPr/>
        </p:nvGraphicFramePr>
        <p:xfrm>
          <a:off x="2268360" y="5229360"/>
          <a:ext cx="4638960" cy="614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2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68360" y="5229360"/>
                    <a:ext cx="4638960" cy="61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981000"/>
            <a:ext cx="8064360" cy="432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структура органских једињења (физичке и хемијске методе)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4" name="Content Placeholder 3" descr=""/>
          <p:cNvPicPr/>
          <p:nvPr/>
        </p:nvPicPr>
        <p:blipFill>
          <a:blip r:embed="rId1"/>
          <a:stretch/>
        </p:blipFill>
        <p:spPr>
          <a:xfrm>
            <a:off x="536400" y="1542960"/>
            <a:ext cx="76438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хем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хемије који проучава просторни распоред атома у молекулу и просторни облик молекула (конфигурацију и конформацију молекула), као и утицај ових просторних особина на хемијско и физичко понашање једињења назива се стереохемиј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3"/>
          <p:cNvSpPr/>
          <p:nvPr/>
        </p:nvSpPr>
        <p:spPr>
          <a:xfrm>
            <a:off x="971640" y="1413000"/>
            <a:ext cx="7200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тродимензионални распоред атома у основном стању молеку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а стереохемиј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зучава просторне односе атома у молекулима током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ска из једног стања у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, нпр. током хемијске реак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руктура молекула обухвата: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у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у 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ормациј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, број и редослед везивања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 атома у молекул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Calibri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игур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рни распоред атома у молекулу одређене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итуције који се не може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ити *без раскидања постојећих и успостаљања нових хемијских вез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углавном!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тереоизомер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врста изомерије потиче услед различитог просторног распореда атома у молекулу, тј. услед различите конфигурације молекула и назива се стереоизомерија (просторна изомерија), а изомери који имају исту структуру али се разликују по конфигурацији зову се стереоизомер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94" name="Object 2"/>
          <p:cNvGraphicFramePr/>
          <p:nvPr/>
        </p:nvGraphicFramePr>
        <p:xfrm>
          <a:off x="1476360" y="5229360"/>
          <a:ext cx="296712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5229360"/>
                    <a:ext cx="296712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Object 3"/>
          <p:cNvGraphicFramePr/>
          <p:nvPr/>
        </p:nvGraphicFramePr>
        <p:xfrm>
          <a:off x="5076720" y="5229360"/>
          <a:ext cx="2764080" cy="10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5229360"/>
                    <a:ext cx="276408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онформациј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ед слободне ротације око простих веза и извесне покретљивости (савитљивости) углова између појединих веза, један исти молекул, тј. молекул сасвим одређене конституције и конфигурације, може заузимати различите облике у простору. Ови различити просторни облици једног мелекула познати су под именом конформациј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1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468360" y="1773360"/>
          <a:ext cx="8218440" cy="435924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енска (етиленска или олефинск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дроксил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нска (ацетиленск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тарска (оксид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јано-(нитрилн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њугована дии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нилна (алдехидна; кето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н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боксил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логенид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стар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2" name="Object 4"/>
          <p:cNvGraphicFramePr/>
          <p:nvPr/>
        </p:nvGraphicFramePr>
        <p:xfrm>
          <a:off x="2987640" y="2276640"/>
          <a:ext cx="974880" cy="40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276640"/>
                    <a:ext cx="974880" cy="40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Object 5"/>
          <p:cNvGraphicFramePr/>
          <p:nvPr/>
        </p:nvGraphicFramePr>
        <p:xfrm>
          <a:off x="2987640" y="3068640"/>
          <a:ext cx="974880" cy="14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3068640"/>
                    <a:ext cx="97488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Object 6"/>
          <p:cNvGraphicFramePr/>
          <p:nvPr/>
        </p:nvGraphicFramePr>
        <p:xfrm>
          <a:off x="2700360" y="3500280"/>
          <a:ext cx="1595520" cy="406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3500280"/>
                    <a:ext cx="15955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7"/>
          <p:cNvGraphicFramePr/>
          <p:nvPr/>
        </p:nvGraphicFramePr>
        <p:xfrm>
          <a:off x="2771640" y="4437000"/>
          <a:ext cx="1595520" cy="147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71640" y="4437000"/>
                    <a:ext cx="15955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Object 8"/>
          <p:cNvGraphicFramePr/>
          <p:nvPr/>
        </p:nvGraphicFramePr>
        <p:xfrm>
          <a:off x="2843280" y="4941720"/>
          <a:ext cx="1285920" cy="406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843280" y="4941720"/>
                    <a:ext cx="128592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Object 9"/>
          <p:cNvGraphicFramePr/>
          <p:nvPr/>
        </p:nvGraphicFramePr>
        <p:xfrm>
          <a:off x="2771640" y="5661000"/>
          <a:ext cx="1494000" cy="219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1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5661000"/>
                    <a:ext cx="14940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Object 10"/>
          <p:cNvGraphicFramePr/>
          <p:nvPr/>
        </p:nvGraphicFramePr>
        <p:xfrm>
          <a:off x="7380360" y="2349360"/>
          <a:ext cx="519120" cy="1476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1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80360" y="2349360"/>
                    <a:ext cx="5191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Object 11"/>
          <p:cNvGraphicFramePr/>
          <p:nvPr/>
        </p:nvGraphicFramePr>
        <p:xfrm>
          <a:off x="7308720" y="2997360"/>
          <a:ext cx="663840" cy="1476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1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2997360"/>
                    <a:ext cx="66384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13"/>
          <p:cNvGraphicFramePr/>
          <p:nvPr/>
        </p:nvGraphicFramePr>
        <p:xfrm>
          <a:off x="6875640" y="4149720"/>
          <a:ext cx="1657080" cy="674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19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5640" y="4149720"/>
                    <a:ext cx="1657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14"/>
          <p:cNvGraphicFramePr/>
          <p:nvPr/>
        </p:nvGraphicFramePr>
        <p:xfrm>
          <a:off x="7236000" y="4941720"/>
          <a:ext cx="828360" cy="4590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21" name="Object 14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4941720"/>
                    <a:ext cx="82836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6"/>
          <p:cNvGraphicFramePr/>
          <p:nvPr/>
        </p:nvGraphicFramePr>
        <p:xfrm>
          <a:off x="7236000" y="5589720"/>
          <a:ext cx="820440" cy="46008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23" name="Object 1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236000" y="5589720"/>
                    <a:ext cx="820440" cy="46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27"/>
          <p:cNvGraphicFramePr/>
          <p:nvPr/>
        </p:nvGraphicFramePr>
        <p:xfrm>
          <a:off x="7236000" y="3645000"/>
          <a:ext cx="722160" cy="14760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25" name="Object 2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6000" y="3645000"/>
                    <a:ext cx="722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395280" y="2421000"/>
          <a:ext cx="8319960" cy="2297160"/>
        </p:xfrm>
        <a:graphic>
          <a:graphicData uri="http://schemas.openxmlformats.org/drawingml/2006/table">
            <a:tbl>
              <a:tblPr/>
              <a:tblGrid>
                <a:gridCol w="2665440"/>
                <a:gridCol w="3311640"/>
                <a:gridCol w="2342880"/>
              </a:tblGrid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и презим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il адре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вањ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zivkovic@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ц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на Ж. Мијајлов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ina.mijajlov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лош В.Николи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los.nikolic</a:t>
                      </a: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@medf.kg.ac.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истен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функционалне групе (2)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539640" y="1989000"/>
          <a:ext cx="8218440" cy="3840480"/>
        </p:xfrm>
        <a:graphic>
          <a:graphicData uri="http://schemas.openxmlformats.org/drawingml/2006/table">
            <a:tbl>
              <a:tblPr/>
              <a:tblGrid>
                <a:gridCol w="2054160"/>
                <a:gridCol w="2055960"/>
                <a:gridCol w="2054160"/>
                <a:gridCol w="205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 ф.г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капто- (тиолна или сулфхидрилн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кунд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сулф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цијарна амин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фоксид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тр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лфон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з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28" name="Object 14"/>
          <p:cNvGraphicFramePr/>
          <p:nvPr/>
        </p:nvGraphicFramePr>
        <p:xfrm>
          <a:off x="3059280" y="2565360"/>
          <a:ext cx="718920" cy="14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9280" y="2565360"/>
                    <a:ext cx="718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5"/>
          <p:cNvGraphicFramePr/>
          <p:nvPr/>
        </p:nvGraphicFramePr>
        <p:xfrm>
          <a:off x="3132000" y="3213000"/>
          <a:ext cx="663840" cy="1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1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213000"/>
                    <a:ext cx="66384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6"/>
          <p:cNvGraphicFramePr/>
          <p:nvPr/>
        </p:nvGraphicFramePr>
        <p:xfrm>
          <a:off x="2987640" y="3860640"/>
          <a:ext cx="974880" cy="147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3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3860640"/>
                    <a:ext cx="974880" cy="1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7"/>
          <p:cNvGraphicFramePr/>
          <p:nvPr/>
        </p:nvGraphicFramePr>
        <p:xfrm>
          <a:off x="3132000" y="4365720"/>
          <a:ext cx="663840" cy="45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5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32000" y="4365720"/>
                    <a:ext cx="663840" cy="45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18"/>
          <p:cNvGraphicFramePr/>
          <p:nvPr/>
        </p:nvGraphicFramePr>
        <p:xfrm>
          <a:off x="3132000" y="5013360"/>
          <a:ext cx="663840" cy="770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7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132000" y="5013360"/>
                    <a:ext cx="663840" cy="77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19"/>
          <p:cNvGraphicFramePr/>
          <p:nvPr/>
        </p:nvGraphicFramePr>
        <p:xfrm>
          <a:off x="7308720" y="2421000"/>
          <a:ext cx="719280" cy="4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308720" y="2421000"/>
                    <a:ext cx="7192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0"/>
          <p:cNvGraphicFramePr/>
          <p:nvPr/>
        </p:nvGraphicFramePr>
        <p:xfrm>
          <a:off x="7308720" y="3068640"/>
          <a:ext cx="719280" cy="404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41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308720" y="3068640"/>
                    <a:ext cx="71928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21"/>
          <p:cNvGraphicFramePr/>
          <p:nvPr/>
        </p:nvGraphicFramePr>
        <p:xfrm>
          <a:off x="7308720" y="3716280"/>
          <a:ext cx="662040" cy="4064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43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08720" y="3716280"/>
                    <a:ext cx="6620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22"/>
          <p:cNvGraphicFramePr/>
          <p:nvPr/>
        </p:nvGraphicFramePr>
        <p:xfrm>
          <a:off x="7308720" y="4365720"/>
          <a:ext cx="722520" cy="5223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45" name="Object 2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308720" y="4365720"/>
                    <a:ext cx="7225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23"/>
          <p:cNvGraphicFramePr/>
          <p:nvPr/>
        </p:nvGraphicFramePr>
        <p:xfrm>
          <a:off x="7236000" y="5300640"/>
          <a:ext cx="973080" cy="1461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47" name="Object 2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236000" y="5300640"/>
                    <a:ext cx="973080" cy="1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1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0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67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3203640" y="3357720"/>
          <a:ext cx="936720" cy="183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3357720"/>
                    <a:ext cx="936720" cy="18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Object 5"/>
          <p:cNvGraphicFramePr/>
          <p:nvPr/>
        </p:nvGraphicFramePr>
        <p:xfrm>
          <a:off x="2987640" y="3933720"/>
          <a:ext cx="1440000" cy="49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4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87640" y="3933720"/>
                    <a:ext cx="1440000" cy="4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Object 6"/>
          <p:cNvGraphicFramePr/>
          <p:nvPr/>
        </p:nvGraphicFramePr>
        <p:xfrm>
          <a:off x="2987640" y="4653000"/>
          <a:ext cx="1441440" cy="439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56" name="Object 6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87640" y="4653000"/>
                    <a:ext cx="1441440" cy="43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7"/>
          <p:cNvGraphicFramePr/>
          <p:nvPr/>
        </p:nvGraphicFramePr>
        <p:xfrm>
          <a:off x="2987640" y="5229360"/>
          <a:ext cx="1441440" cy="80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58" name="Object 7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87640" y="5229360"/>
                    <a:ext cx="144144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8"/>
          <p:cNvGraphicFramePr/>
          <p:nvPr/>
        </p:nvGraphicFramePr>
        <p:xfrm>
          <a:off x="3059280" y="6054840"/>
          <a:ext cx="1182600" cy="80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60" name="Object 8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6054840"/>
                    <a:ext cx="118260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Object 9"/>
          <p:cNvGraphicFramePr/>
          <p:nvPr/>
        </p:nvGraphicFramePr>
        <p:xfrm>
          <a:off x="7524720" y="3357720"/>
          <a:ext cx="549360" cy="180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62" name="Object 9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524720" y="3357720"/>
                    <a:ext cx="549360" cy="18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Object 10"/>
          <p:cNvGraphicFramePr/>
          <p:nvPr/>
        </p:nvGraphicFramePr>
        <p:xfrm>
          <a:off x="7380360" y="4005360"/>
          <a:ext cx="782640" cy="35064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64" name="Object 10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380360" y="4005360"/>
                    <a:ext cx="7826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5" name="Object 11"/>
          <p:cNvGraphicFramePr/>
          <p:nvPr/>
        </p:nvGraphicFramePr>
        <p:xfrm>
          <a:off x="7380360" y="4797360"/>
          <a:ext cx="782640" cy="1810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66" name="Object 11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380360" y="4797360"/>
                    <a:ext cx="7826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Object 12"/>
          <p:cNvGraphicFramePr/>
          <p:nvPr/>
        </p:nvGraphicFramePr>
        <p:xfrm>
          <a:off x="7308720" y="5229360"/>
          <a:ext cx="895320" cy="77760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368" name="Object 12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7308720" y="5229360"/>
                    <a:ext cx="89532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Object 13"/>
          <p:cNvGraphicFramePr/>
          <p:nvPr/>
        </p:nvGraphicFramePr>
        <p:xfrm>
          <a:off x="7236000" y="6165720"/>
          <a:ext cx="1160280" cy="5731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370" name="Object 13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236000" y="6165720"/>
                    <a:ext cx="116028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2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73" name="Table 3" descr=""/>
          <p:cNvPicPr/>
          <p:nvPr/>
        </p:nvPicPr>
        <p:blipFill>
          <a:blip r:embed="rId1"/>
          <a:stretch/>
        </p:blipFill>
        <p:spPr>
          <a:xfrm>
            <a:off x="469800" y="2273400"/>
            <a:ext cx="8350200" cy="4529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4" name="Object 12"/>
          <p:cNvGraphicFramePr/>
          <p:nvPr/>
        </p:nvGraphicFramePr>
        <p:xfrm>
          <a:off x="3132000" y="3357720"/>
          <a:ext cx="1347840" cy="75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32000" y="3357720"/>
                    <a:ext cx="134784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6" name="Object 13"/>
          <p:cNvGraphicFramePr/>
          <p:nvPr/>
        </p:nvGraphicFramePr>
        <p:xfrm>
          <a:off x="3276720" y="5013360"/>
          <a:ext cx="799920" cy="147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276720" y="5013360"/>
                    <a:ext cx="79992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8" name="Object 14"/>
          <p:cNvGraphicFramePr/>
          <p:nvPr/>
        </p:nvGraphicFramePr>
        <p:xfrm>
          <a:off x="3203640" y="6165720"/>
          <a:ext cx="939600" cy="181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79" name="Object 1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203640" y="6165720"/>
                    <a:ext cx="939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0" name="Object 15"/>
          <p:cNvGraphicFramePr/>
          <p:nvPr/>
        </p:nvGraphicFramePr>
        <p:xfrm>
          <a:off x="7380360" y="3716280"/>
          <a:ext cx="871560" cy="179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81" name="Object 15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7380360" y="3716280"/>
                    <a:ext cx="8715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2" name="Object 16"/>
          <p:cNvGraphicFramePr/>
          <p:nvPr/>
        </p:nvGraphicFramePr>
        <p:xfrm>
          <a:off x="7164360" y="4724280"/>
          <a:ext cx="1347840" cy="1825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83" name="Object 16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164360" y="4724280"/>
                    <a:ext cx="1347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4" name="Object 17"/>
          <p:cNvGraphicFramePr/>
          <p:nvPr/>
        </p:nvGraphicFramePr>
        <p:xfrm>
          <a:off x="7236000" y="5445000"/>
          <a:ext cx="1104840" cy="1825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85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236000" y="5445000"/>
                    <a:ext cx="11048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Object 18"/>
          <p:cNvGraphicFramePr/>
          <p:nvPr/>
        </p:nvGraphicFramePr>
        <p:xfrm>
          <a:off x="7093080" y="6165720"/>
          <a:ext cx="1577880" cy="1825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87" name="Object 18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093080" y="6165720"/>
                    <a:ext cx="157788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Важније угљоводоничне групе -остаци (3)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68360" y="1628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овалентне и тровалентне групе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55640" y="2133720"/>
          <a:ext cx="7777080" cy="4392360"/>
        </p:xfrm>
        <a:graphic>
          <a:graphicData uri="http://schemas.openxmlformats.org/drawingml/2006/table">
            <a:tbl>
              <a:tblPr/>
              <a:tblGrid>
                <a:gridCol w="1800360"/>
                <a:gridCol w="2130480"/>
                <a:gridCol w="1671480"/>
                <a:gridCol w="2174760"/>
              </a:tblGrid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е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а груп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718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ал- (или бензилид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метилен- (етилен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и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иметил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нзо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797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к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н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пропилиден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91" name="Object 12"/>
          <p:cNvGraphicFramePr/>
          <p:nvPr/>
        </p:nvGraphicFramePr>
        <p:xfrm>
          <a:off x="3276720" y="3141720"/>
          <a:ext cx="734760" cy="17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2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141720"/>
                    <a:ext cx="734760" cy="17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3" name="Object 13"/>
          <p:cNvGraphicFramePr/>
          <p:nvPr/>
        </p:nvGraphicFramePr>
        <p:xfrm>
          <a:off x="3059280" y="3860640"/>
          <a:ext cx="1137960" cy="1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3860640"/>
                    <a:ext cx="113796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" name="Object 14"/>
          <p:cNvGraphicFramePr/>
          <p:nvPr/>
        </p:nvGraphicFramePr>
        <p:xfrm>
          <a:off x="3059280" y="4508640"/>
          <a:ext cx="1090440" cy="18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6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4508640"/>
                    <a:ext cx="1090440" cy="1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7" name="Object 15"/>
          <p:cNvGraphicFramePr/>
          <p:nvPr/>
        </p:nvGraphicFramePr>
        <p:xfrm>
          <a:off x="3059280" y="5300640"/>
          <a:ext cx="1106280" cy="244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8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59280" y="5300640"/>
                    <a:ext cx="1106280" cy="24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Object 16"/>
          <p:cNvGraphicFramePr/>
          <p:nvPr/>
        </p:nvGraphicFramePr>
        <p:xfrm>
          <a:off x="3203640" y="5950080"/>
          <a:ext cx="799920" cy="492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0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03640" y="5950080"/>
                    <a:ext cx="799920" cy="4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7"/>
          <p:cNvGraphicFramePr/>
          <p:nvPr/>
        </p:nvGraphicFramePr>
        <p:xfrm>
          <a:off x="7093080" y="3141720"/>
          <a:ext cx="753840" cy="181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2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093080" y="3141720"/>
                    <a:ext cx="7538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7236000" y="3860640"/>
          <a:ext cx="420480" cy="149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236000" y="3860640"/>
                    <a:ext cx="420480" cy="1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Object 19"/>
          <p:cNvGraphicFramePr/>
          <p:nvPr/>
        </p:nvGraphicFramePr>
        <p:xfrm>
          <a:off x="7164360" y="4581360"/>
          <a:ext cx="649440" cy="181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6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4360" y="4581360"/>
                    <a:ext cx="64944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Object 20"/>
          <p:cNvGraphicFramePr/>
          <p:nvPr/>
        </p:nvGraphicFramePr>
        <p:xfrm>
          <a:off x="6948360" y="5300640"/>
          <a:ext cx="1046160" cy="1476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08" name="Object 20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48360" y="5300640"/>
                    <a:ext cx="1046160" cy="14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кспериментални услови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ло ниских температура (испод – 100˚С) до 1000˚ и више степени и под притиском од неколико милиметара (живиног стуба) до преко хиљаду атмосфера; у гасној, течној или чврстој фази као и на површини активних супстанци; под утицајем обичне светлости, ултраљубичастих зракова, ултразвука и других радијација, па и у потпуном мраку, у времену трајања које може да варира од незнатног дела секунде до неколико месеци па чак и годи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вантитативне реакције у органској хемији су ретке!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80 – 90 % → врло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50 – 60 % → добар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 20 –30 % → задовољавајућ (у неким случајевима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ограничавају принос органских реакциј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224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главне реакције одигравају се и друге споредне реакциј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мене експерименталних услов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 распадања органских молекула или полимеризација уз потенцијално стварање рђаво дефинисаних производ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верзибилност извесних реакциј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Карактеристике органских реакција (3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а катализатора ради убрзања тока реакциј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е органске реакције су веома споре, па су експериментално готово неизводљиве без присуства катализат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изатори учествују у реакцијама, али се на крају регенеришу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ложеност структуре реактаната и производа реакциј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24000" y="1700280"/>
          <a:ext cx="8501040" cy="4157640"/>
        </p:xfrm>
        <a:graphic>
          <a:graphicData uri="http://schemas.openxmlformats.org/drawingml/2006/table">
            <a:tbl>
              <a:tblPr/>
              <a:tblGrid>
                <a:gridCol w="758520"/>
                <a:gridCol w="3365640"/>
                <a:gridCol w="700200"/>
                <a:gridCol w="1008000"/>
                <a:gridCol w="936720"/>
                <a:gridCol w="1731960"/>
              </a:tblGrid>
              <a:tr h="71892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дељ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авања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 у малој групи недељ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авни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80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160" rIns="651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Марија Д. Живк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 gridSpan="6">
                  <a:txBody>
                    <a:bodyPr lIns="65160" rIns="651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30=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160" marR="65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ЊИВАЊЕ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удент савлада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предмет по модулима. Оцена је еквивалентна броју освојених поена (ви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беле)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ени се стичу на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 У ТОКУ НАСТАВЕ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освојити до 30 поена и то тако што на последњем часу рада у малој групи извлачи 2 испитна питања из те недеље наставе, одговара на њих и у складу са показаним знањем добија 0-2 поена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РШНИ ТЕСТОВИ ПО МОДУЛУМА: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вај начин студент може стећи до 70 поена а према приложеној табел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50920" y="1714680"/>
          <a:ext cx="8464320" cy="3803400"/>
        </p:xfrm>
        <a:graphic>
          <a:graphicData uri="http://schemas.openxmlformats.org/drawingml/2006/table">
            <a:tbl>
              <a:tblPr/>
              <a:tblGrid>
                <a:gridCol w="363600"/>
                <a:gridCol w="4389120"/>
                <a:gridCol w="2032200"/>
                <a:gridCol w="1168200"/>
                <a:gridCol w="511200"/>
              </a:tblGrid>
              <a:tr h="433080">
                <a:tc gridSpan="2" row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НО ПОЕ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508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ост у току настав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ршни т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gridSpan="2"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5880" rIns="658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5880" marR="65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TextBox 3"/>
          <p:cNvSpPr/>
          <p:nvPr/>
        </p:nvSpPr>
        <p:spPr>
          <a:xfrm>
            <a:off x="250920" y="580536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активност у току наставе за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модул је неопходно да оствари минимално 6/10 поена ! !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2876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ршна оцена се формира на следећи начин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студент положио предмет мора да оствари минимум 55 бодова и да положи све модул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положио модул студент мора да: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на том модулу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вари више од 50% бодова предвиђених за активност у настави (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јмањ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ена за сваки модул посебно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  да положи тест из тог модула, односно да има више од 50% тачних одговор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Б</a:t>
            </a:r>
            <a:r>
              <a:rPr b="0" lang="sr-Latn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</a:t>
            </a:r>
            <a:r>
              <a:rPr b="0" lang="sr-C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en-US" sz="3200" spc="-1" strike="noStrike" u="sng">
                <a:solidFill>
                  <a:srgbClr val="04617b"/>
                </a:solidFill>
                <a:uFillTx/>
                <a:latin typeface="Times New Roman"/>
                <a:ea typeface="Times New Roman"/>
              </a:rPr>
              <a:t>Oрганска хемија 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71760" y="2428920"/>
          <a:ext cx="5429160" cy="3002040"/>
        </p:xfrm>
        <a:graphic>
          <a:graphicData uri="http://schemas.openxmlformats.org/drawingml/2006/table">
            <a:tbl>
              <a:tblPr/>
              <a:tblGrid>
                <a:gridCol w="4108320"/>
                <a:gridCol w="1320840"/>
              </a:tblGrid>
              <a:tr h="420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ј освојених по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 - 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 - 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 - 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- 8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- 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 -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"/>
          <p:cNvGraphicFramePr/>
          <p:nvPr/>
        </p:nvGraphicFramePr>
        <p:xfrm>
          <a:off x="179280" y="1125360"/>
          <a:ext cx="8715600" cy="5073840"/>
        </p:xfrm>
        <a:graphic>
          <a:graphicData uri="http://schemas.openxmlformats.org/drawingml/2006/table">
            <a:tbl>
              <a:tblPr/>
              <a:tblGrid>
                <a:gridCol w="500040"/>
                <a:gridCol w="2643480"/>
                <a:gridCol w="1428480"/>
                <a:gridCol w="1428840"/>
                <a:gridCol w="1500120"/>
                <a:gridCol w="1214640"/>
              </a:tblGrid>
              <a:tr h="500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ду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</a:t>
                      </a: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в моду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ив уџбен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тор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давач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блиоте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уктуре органских једињења. Органске реакције. Хемијска веза. Електронски ефекти у органским молекулима. Стереохемиј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146376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ереохемија ацикличних, цикличних и незасићених једињења. Интермолекулске силе. Равнотежни системи типа киселина-база у органској хемиј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и теоријске органске хемије и стереохемиј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Љ. </a:t>
                      </a: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ихаиловић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ђевинска Књига, Београд, </a:t>
                      </a: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7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440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етероциклична једињења са једним и са два хетероатом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од у хемију хетероцикличних једињењ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Павл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ниверзитет у Београду, Фармацеутски факултет, Београд, 199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2bfc5"/>
                    </a:solidFill>
                  </a:tcPr>
                </a:tc>
              </a:tr>
              <a:tr h="365040">
                <a:tc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датна литерату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ска хемиј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C. Voillhardt, N. E. Sch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јдиграф, Београд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1996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840">
                <a:tc gridSpan="6">
                  <a:txBody>
                    <a:bodyPr lIns="42480" rIns="424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а предавања налазе се на сајту Факултета медицинских наука: </a:t>
                      </a:r>
                      <a:r>
                        <a:rPr b="0" lang="ru-RU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www.medf.kg.ac.</a:t>
                      </a:r>
                      <a:r>
                        <a:rPr b="0" lang="fr-FR" sz="1200" spc="-1" strike="noStrike" u="sng">
                          <a:solidFill>
                            <a:srgbClr val="e2d700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Консултације са студентима  сваког уторка од </a:t>
                      </a:r>
                      <a:r>
                        <a:rPr b="1" lang="en-US" sz="12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ea typeface="Times New Roman"/>
                        </a:rPr>
                        <a:t>12.00 до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480" marR="42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Corporate Edition</cp:lastModifiedBy>
  <cp:lastPrinted>2016-09-05T00:13:55Z</cp:lastPrinted>
  <dcterms:modified xsi:type="dcterms:W3CDTF">2017-08-29T13:18:01Z</dcterms:modified>
  <cp:revision>242</cp:revision>
  <dc:subject/>
  <dc:title>Slide 1</dc:title>
</cp:coreProperties>
</file>